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4.wmf" ContentType="image/x-wmf"/>
  <Override PartName="/ppt/media/image27.gif" ContentType="image/gif"/>
  <Override PartName="/ppt/media/image23.gif" ContentType="image/gif"/>
  <Override PartName="/ppt/media/image20.wmf" ContentType="image/x-wmf"/>
  <Override PartName="/ppt/media/image19.gif" ContentType="image/gif"/>
  <Override PartName="/ppt/media/image17.gif" ContentType="image/gif"/>
  <Override PartName="/ppt/media/image52.png" ContentType="image/png"/>
  <Override PartName="/ppt/media/image21.png" ContentType="image/png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gif" ContentType="image/gif"/>
  <Override PartName="/ppt/media/image31.gif" ContentType="image/gif"/>
  <Override PartName="/ppt/media/image4.wmf" ContentType="image/x-wmf"/>
  <Override PartName="/ppt/media/image8.gif" ContentType="image/gif"/>
  <Override PartName="/ppt/media/image25.wmf" ContentType="image/x-wmf"/>
  <Override PartName="/ppt/media/image29.gif" ContentType="image/gif"/>
  <Override PartName="/ppt/media/image2.wmf" ContentType="image/x-wmf"/>
  <Override PartName="/ppt/media/image6.gif" ContentType="image/gif"/>
  <Override PartName="/ppt/media/image32.wmf" ContentType="image/x-wmf"/>
  <Override PartName="/ppt/media/image36.gif" ContentType="image/gif"/>
  <Override PartName="/ppt/media/image26.gif" ContentType="image/gif"/>
  <Override PartName="/ppt/media/image22.wmf" ContentType="image/x-wmf"/>
  <Override PartName="/ppt/media/image3.gif" ContentType="image/gif"/>
  <Override PartName="/ppt/media/image34.gif" ContentType="image/gif"/>
  <Override PartName="/ppt/media/image38.wmf" ContentType="image/x-wmf"/>
  <Override PartName="/ppt/media/image40.wmf" ContentType="image/x-wmf"/>
  <Override PartName="/ppt/media/image15.gif" ContentType="image/gif"/>
  <Override PartName="/ppt/media/image41.wmf" ContentType="image/x-wmf"/>
  <Override PartName="/ppt/media/image39.wmf" ContentType="image/x-wmf"/>
  <Override PartName="/ppt/media/image42.wmf" ContentType="image/x-wmf"/>
  <Override PartName="/ppt/media/image44.png" ContentType="image/png"/>
  <Override PartName="/ppt/media/image43.gif" ContentType="image/gif"/>
  <Override PartName="/ppt/media/image46.wmf" ContentType="image/x-wmf"/>
  <Override PartName="/ppt/media/image48.png" ContentType="image/png"/>
  <Override PartName="/ppt/media/image37.gif" ContentType="image/gif"/>
  <Override PartName="/ppt/media/image33.wmf" ContentType="image/x-wmf"/>
  <Override PartName="/ppt/media/image13.png" ContentType="image/png"/>
  <Override PartName="/ppt/media/applause.wav" ContentType="audio/x-wav"/>
  <Override PartName="/ppt/media/image9.gif" ContentType="image/gif"/>
  <Override PartName="/ppt/media/image5.wmf" ContentType="image/x-wmf"/>
  <Override PartName="/ppt/media/image50.wmf" ContentType="image/x-wmf"/>
  <Override PartName="/ppt/media/voltage.wav" ContentType="audio/x-wav"/>
  <Override PartName="/ppt/media/image30.png" ContentType="image/png"/>
  <Override PartName="/ppt/media/image10.gif" ContentType="image/gif"/>
  <Override PartName="/ppt/media/image47.gif" ContentType="image/gif"/>
  <Override PartName="/ppt/media/image12.gif" ContentType="image/gif"/>
  <Override PartName="/ppt/media/image45.wmf" ContentType="image/x-wmf"/>
  <Override PartName="/ppt/media/image11.gif" ContentType="image/gif"/>
  <Override PartName="/ppt/media/image7.jpeg" ContentType="image/jpeg"/>
  <Override PartName="/ppt/media/image35.gif" ContentType="image/gif"/>
  <Override PartName="/ppt/media/image18.png" ContentType="image/pn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ECE-3B76-4437-8141-D37DBE7A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671-21CD-4EF5-ACB0-D43024B8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266-9CFC-4965-9733-214FA6A7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8A3-B00C-43DD-9D68-5821E47B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2F84-6D50-4D50-B9BD-A45033DA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F477-586C-46E5-9119-B5E49D98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430-FB3F-480F-852C-D6CC6B57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142B-1BCA-4719-8EB2-F50062FE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0EC-D573-4365-BB5A-40B9ACC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8675-5C80-4BE0-9650-92FC20FA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8D73-CE8C-4E30-91BE-0911736F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291-324C-4EEB-844E-24B1B11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4E12-BC20-47A7-8BE1-41AA1B0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281-86F8-4CD0-BE7A-68E32A0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0762-0FFA-4926-9B12-80CCC0D9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122-67EA-4548-815C-C38BB91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8246-7442-4A61-BF2F-DDCEF435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01B-229D-4204-BB53-04C8ECA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E0F-8C74-48E9-8D55-D174CA6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517-9840-4094-A640-106C0997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018-A605-40EA-B90F-02DAE16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5EF-D0ED-462D-BCEA-84E9320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481-A165-4B5B-AC2B-B26196C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78D-C42B-46B9-8CAD-8A36D76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73A-28D6-4409-B706-294ABE981C3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5F5D-6BAE-457E-80CF-D090BC717C8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audio" Target="../media/typ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0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1.gif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2349360"/>
            <a:ext cx="65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1.3.2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理数的减法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893960"/>
            <a:ext cx="75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比较下面的式子，能发现其中的规律吗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76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5 =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1 +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4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03200" y="3222720"/>
            <a:ext cx="3736800" cy="952560"/>
            <a:chOff x="1303200" y="3222720"/>
            <a:chExt cx="3736800" cy="952560"/>
          </a:xfrm>
        </p:grpSpPr>
        <p:sp>
          <p:nvSpPr>
            <p:cNvPr id="157" name=""/>
            <p:cNvSpPr/>
            <p:nvPr/>
          </p:nvSpPr>
          <p:spPr>
            <a:xfrm flipV="1">
              <a:off x="1303200" y="3222720"/>
              <a:ext cx="0" cy="8877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3200" y="3222720"/>
              <a:ext cx="37368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40000" y="3222720"/>
              <a:ext cx="0" cy="95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16000" y="3222720"/>
            <a:ext cx="274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减号变加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16000" y="4838400"/>
            <a:ext cx="4680000" cy="724320"/>
            <a:chOff x="2016000" y="4838400"/>
            <a:chExt cx="4680000" cy="724320"/>
          </a:xfrm>
        </p:grpSpPr>
        <p:sp>
          <p:nvSpPr>
            <p:cNvPr id="162" name=""/>
            <p:cNvSpPr/>
            <p:nvPr/>
          </p:nvSpPr>
          <p:spPr>
            <a:xfrm>
              <a:off x="2016000" y="4838760"/>
              <a:ext cx="0" cy="7239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16000" y="5562720"/>
              <a:ext cx="4680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696000" y="4838400"/>
              <a:ext cx="0" cy="7239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368440" y="4921200"/>
            <a:ext cx="309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减数变相反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3480" y="547560"/>
            <a:ext cx="2192400" cy="1081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00360" y="4098960"/>
            <a:ext cx="568080" cy="6858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30920" y="4175280"/>
            <a:ext cx="936720" cy="6094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4116240"/>
            <a:ext cx="568440" cy="6858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4152960"/>
            <a:ext cx="568080" cy="6858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06920" y="297000"/>
            <a:ext cx="1009800" cy="1152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03048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–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05080" y="22240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减号变加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50920" y="3860280"/>
            <a:ext cx="4789440" cy="691200"/>
            <a:chOff x="2050920" y="3860280"/>
            <a:chExt cx="4789440" cy="691200"/>
          </a:xfrm>
        </p:grpSpPr>
        <p:sp>
          <p:nvSpPr>
            <p:cNvPr id="175" name=""/>
            <p:cNvSpPr/>
            <p:nvPr/>
          </p:nvSpPr>
          <p:spPr>
            <a:xfrm>
              <a:off x="2050920" y="3860640"/>
              <a:ext cx="0" cy="6908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0920" y="4551480"/>
              <a:ext cx="47894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40360" y="3860280"/>
              <a:ext cx="0" cy="6908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679840" y="3965400"/>
            <a:ext cx="340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减数变相反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63840" y="333360"/>
            <a:ext cx="1766880" cy="129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55640" y="3159000"/>
            <a:ext cx="576360" cy="648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6200" y="3124080"/>
            <a:ext cx="992160" cy="648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1640" y="3129120"/>
            <a:ext cx="576360" cy="647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129120"/>
            <a:ext cx="576000" cy="647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08000" y="2157120"/>
            <a:ext cx="4787640" cy="935280"/>
            <a:chOff x="1008000" y="2157120"/>
            <a:chExt cx="4787640" cy="935280"/>
          </a:xfrm>
        </p:grpSpPr>
        <p:sp>
          <p:nvSpPr>
            <p:cNvPr id="185" name=""/>
            <p:cNvSpPr/>
            <p:nvPr/>
          </p:nvSpPr>
          <p:spPr>
            <a:xfrm flipV="1">
              <a:off x="1008000" y="2157120"/>
              <a:ext cx="0" cy="871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08000" y="2157480"/>
              <a:ext cx="47876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5640" y="2157480"/>
              <a:ext cx="0" cy="934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60480" y="5121360"/>
            <a:ext cx="66848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隶书"/>
              </a:rPr>
              <a:t>　　归纳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有理数的减法可以转化为加法来进行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486400" y="142920"/>
            <a:ext cx="100980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26920" y="224172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理数减法法则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去一个数，等于加上这个数的相反数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=a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895480" y="914400"/>
            <a:ext cx="3838680" cy="782640"/>
            <a:chOff x="2895480" y="914400"/>
            <a:chExt cx="3838680" cy="78264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5734080" y="9144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895480" y="10274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7920" y="5297400"/>
            <a:ext cx="4024440" cy="11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34920" y="220968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法在运算时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要素要发生变化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124080" y="623880"/>
            <a:ext cx="3795840" cy="1833480"/>
            <a:chOff x="3124080" y="623880"/>
            <a:chExt cx="3795840" cy="1833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5086440" y="623880"/>
              <a:ext cx="183348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ile"/>
            <p:cNvSpPr/>
            <p:nvPr/>
          </p:nvSpPr>
          <p:spPr>
            <a:xfrm>
              <a:off x="3124080" y="655560"/>
              <a:ext cx="2041560" cy="8330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cc3300"/>
                </a:gs>
                <a:gs pos="100000">
                  <a:srgbClr val="0000ff"/>
                </a:gs>
              </a:gsLst>
              <a:lin ang="5400000"/>
            </a:gradFill>
            <a:ln w="25560">
              <a:solidFill>
                <a:srgbClr val="0000ff"/>
              </a:solidFill>
              <a:miter/>
            </a:ln>
            <a:effectLst>
              <a:outerShdw dist="143570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注意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403280" y="3357720"/>
            <a:ext cx="617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两个变化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减号变为加号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减数变为它的相反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4653000"/>
            <a:ext cx="7561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10160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 计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2016000"/>
            <a:ext cx="653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）（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-10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）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7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2595600"/>
            <a:ext cx="628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）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5.6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3.4</a:t>
            </a:r>
            <a:r>
              <a:rPr b="1" lang="en-GB" sz="3200" spc="-1" strike="noStrike">
                <a:solidFill>
                  <a:srgbClr val="0033cc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3897360"/>
            <a:ext cx="86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（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）（－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）－（－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＋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5.6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－（－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3.4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）＝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5.6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3.4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80000" y="981000"/>
            <a:ext cx="161136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50920" y="523800"/>
            <a:ext cx="2621160" cy="852480"/>
            <a:chOff x="1150920" y="523800"/>
            <a:chExt cx="2621160" cy="852480"/>
          </a:xfrm>
        </p:grpSpPr>
        <p:sp>
          <p:nvSpPr>
            <p:cNvPr id="207" name=""/>
            <p:cNvSpPr/>
            <p:nvPr/>
          </p:nvSpPr>
          <p:spPr>
            <a:xfrm>
              <a:off x="1619280" y="58248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1150920" y="52380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719280" y="1662120"/>
            <a:ext cx="61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括号内填上适当的数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280" y="2492280"/>
            <a:ext cx="8192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４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－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２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４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 ）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0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－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５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= 0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＋（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 ）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７）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9 =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＋（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）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－（＋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32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 ＝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＋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　　  ）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－０＝（　　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01440" y="26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50160" y="327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780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29120" y="45813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0560" y="52722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6000" y="363600"/>
            <a:ext cx="2381040" cy="1904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1640" y="83808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全国部分城市天气预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69880" y="1687680"/>
          <a:ext cx="8116920" cy="3911400"/>
        </p:xfrm>
        <a:graphic>
          <a:graphicData uri="http://schemas.openxmlformats.org/drawingml/2006/table">
            <a:tbl>
              <a:tblPr/>
              <a:tblGrid>
                <a:gridCol w="1816200"/>
                <a:gridCol w="1512720"/>
                <a:gridCol w="1584360"/>
                <a:gridCol w="1440000"/>
                <a:gridCol w="1763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城市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天气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最高温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最低温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温差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西安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多云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兰州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小雨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哈尔滨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小雪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银川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小雪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沈阳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小雪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呼和浩特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雨夹雪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乌鲁木齐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晴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11.5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楷体_GB2312"/>
                        </a:rPr>
                        <a:t>.5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75247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270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51640" y="31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6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81960" y="3713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81960" y="4292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81960" y="467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88360" y="5143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84360" y="806400"/>
            <a:ext cx="38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计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1763640"/>
            <a:ext cx="3853080" cy="3249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480000" y="1386000"/>
            <a:ext cx="1648080" cy="3467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6320" y="2273400"/>
            <a:ext cx="7872480" cy="2450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68720" y="189000"/>
            <a:ext cx="3024000" cy="1412640"/>
          </a:xfrm>
          <a:prstGeom prst="wedgeRoundRectCallout">
            <a:avLst>
              <a:gd name="adj1" fmla="val 29162"/>
              <a:gd name="adj2" fmla="val 102472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减去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等于加上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相反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7640" y="5049720"/>
            <a:ext cx="3527280" cy="1160640"/>
          </a:xfrm>
          <a:prstGeom prst="wedgeRoundRectCallout">
            <a:avLst>
              <a:gd name="adj1" fmla="val -30962"/>
              <a:gd name="adj2" fmla="val -167782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减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8.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等于加上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8.8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相反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98440" y="48798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267680" y="333360"/>
            <a:ext cx="1373040" cy="141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168640"/>
            <a:ext cx="7278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+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 －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;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.4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－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.5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－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；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－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－（＋３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24000" y="531720"/>
            <a:ext cx="2620440" cy="852480"/>
            <a:chOff x="1224000" y="531720"/>
            <a:chExt cx="2620440" cy="852480"/>
          </a:xfrm>
        </p:grpSpPr>
        <p:sp>
          <p:nvSpPr>
            <p:cNvPr id="236" name=""/>
            <p:cNvSpPr/>
            <p:nvPr/>
          </p:nvSpPr>
          <p:spPr>
            <a:xfrm>
              <a:off x="1692000" y="5904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1224000" y="5317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1239840" y="144936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50133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.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475320" y="836640"/>
            <a:ext cx="2381400" cy="19051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42577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现在，你会在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于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b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即被减数小于减数时，做一下减法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例如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8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1337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以前只有在被减数（记作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大于或等于减数（记作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b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的时候，我们会做减法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例如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95120" y="0"/>
            <a:ext cx="2849400" cy="1709640"/>
            <a:chOff x="2895120" y="0"/>
            <a:chExt cx="2849400" cy="1709640"/>
          </a:xfrm>
        </p:grpSpPr>
        <p:sp>
          <p:nvSpPr>
            <p:cNvPr id="85" name="filecab3"/>
            <p:cNvSpPr/>
            <p:nvPr/>
          </p:nvSpPr>
          <p:spPr>
            <a:xfrm rot="10800000">
              <a:off x="289512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351288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6360" y="84240"/>
            <a:ext cx="990360" cy="1625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00000" y="13478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填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7280" y="2276640"/>
            <a:ext cx="774072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温度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4℃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比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℃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高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________℃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温度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7℃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比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℃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低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_________℃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海拔高度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13m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比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00m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高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_______m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；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）从海拔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20m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到－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40m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，下降了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______m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7440" y="227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20720" y="3630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35280" y="4314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201080" y="663480"/>
            <a:ext cx="1612800" cy="1368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73280" y="5197320"/>
            <a:ext cx="3044880" cy="63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63640" y="2781360"/>
            <a:ext cx="77407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０减去一个数，等于这个数的相反数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.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个数减去０，仍然等于这个数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60720" y="1112760"/>
            <a:ext cx="2770200" cy="947520"/>
            <a:chOff x="3060720" y="1112760"/>
            <a:chExt cx="2770200" cy="947520"/>
          </a:xfrm>
        </p:grpSpPr>
        <p:sp>
          <p:nvSpPr>
            <p:cNvPr id="251" name=""/>
            <p:cNvSpPr txBox="1"/>
            <p:nvPr/>
          </p:nvSpPr>
          <p:spPr>
            <a:xfrm>
              <a:off x="3060720" y="133668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4924440" y="11127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63640" y="4929120"/>
            <a:ext cx="6827760" cy="141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6680" y="1022400"/>
            <a:ext cx="678204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两正数的和是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两负数的和是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数减负数得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负数减正数得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两正数的差数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两负数的差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＿＿＿＿＿＿＿＿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90360" y="1022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90360" y="164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90360" y="217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9036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30240" y="3522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正数、负数或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84720" y="420516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正数、负数或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8880" y="4941720"/>
            <a:ext cx="3633840" cy="1108080"/>
          </a:xfrm>
          <a:prstGeom prst="wedgeRoundRectCallout">
            <a:avLst>
              <a:gd name="adj1" fmla="val -93513"/>
              <a:gd name="adj2" fmla="val 14611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三数直接加减关系又是怎么样的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291440" y="1644480"/>
            <a:ext cx="1114200" cy="19051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66680" y="4941720"/>
            <a:ext cx="1438560" cy="150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11360" y="65736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例 回顾小学时学过的加减法混合运算的顺序，并按照从左到右的顺序计算下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35720" y="2814480"/>
            <a:ext cx="7440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解：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＝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＋（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]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5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＋（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9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5246640"/>
            <a:ext cx="3132000" cy="1332000"/>
          </a:xfrm>
          <a:prstGeom prst="cloudCallout">
            <a:avLst>
              <a:gd name="adj1" fmla="val -44120"/>
              <a:gd name="adj2" fmla="val -110666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运用了哪些运算律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19280" y="52466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12920" y="1665360"/>
            <a:ext cx="4483080" cy="460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56360" y="2529000"/>
            <a:ext cx="2557440" cy="1944720"/>
          </a:xfrm>
          <a:prstGeom prst="wedgeEllipseCallout">
            <a:avLst>
              <a:gd name="adj1" fmla="val -123620"/>
              <a:gd name="adj2" fmla="val -1916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省略括号和前面的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4797360"/>
            <a:ext cx="3421080" cy="1476360"/>
          </a:xfrm>
          <a:prstGeom prst="cloudCallout">
            <a:avLst>
              <a:gd name="adj1" fmla="val -94546"/>
              <a:gd name="adj2" fmla="val -51074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添括号和括号间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00000" y="615960"/>
            <a:ext cx="6966000" cy="1049400"/>
            <a:chOff x="900000" y="615960"/>
            <a:chExt cx="6966000" cy="1049400"/>
          </a:xfrm>
        </p:grpSpPr>
        <p:sp>
          <p:nvSpPr>
            <p:cNvPr id="272" name=""/>
            <p:cNvSpPr/>
            <p:nvPr/>
          </p:nvSpPr>
          <p:spPr>
            <a:xfrm>
              <a:off x="900000" y="766800"/>
              <a:ext cx="696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2071800" y="615960"/>
              <a:ext cx="5678280" cy="104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08000" y="433440"/>
            <a:ext cx="770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下式写成省略加号的和的形式，并把它读出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－（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08000" y="1808280"/>
            <a:ext cx="85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：原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4720" y="3079800"/>
            <a:ext cx="7704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读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正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或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加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44928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上面式子，你能发现简化符号的规律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300640"/>
            <a:ext cx="7704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规律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同号得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”，异号得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”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545240" y="263700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97"/>
                                  </p:iterate>
                                  <p:childTnLst>
                                    <p:set>
                                      <p:cBhvr>
                                        <p:cTn id="8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97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97"/>
                                  </p:iterate>
                                  <p:childTnLst>
                                    <p:set>
                                      <p:cBhvr>
                                        <p:cTn id="8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97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00000" y="202392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把下列各式先写成省略加号的和式，并用两种方法读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3494160"/>
            <a:ext cx="831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1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00160" y="682560"/>
            <a:ext cx="2620440" cy="852480"/>
            <a:chOff x="1100160" y="682560"/>
            <a:chExt cx="2620440" cy="852480"/>
          </a:xfrm>
        </p:grpSpPr>
        <p:sp>
          <p:nvSpPr>
            <p:cNvPr id="283" name=""/>
            <p:cNvSpPr/>
            <p:nvPr/>
          </p:nvSpPr>
          <p:spPr>
            <a:xfrm>
              <a:off x="1568160" y="7412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1100160" y="6825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68520" y="5265720"/>
            <a:ext cx="5632560" cy="898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42920" y="2276640"/>
            <a:ext cx="741672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 读作：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和或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读作：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和或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26360" y="701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386000" y="1052640"/>
            <a:ext cx="594036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533520" y="1676520"/>
            <a:ext cx="8001000" cy="4035240"/>
            <a:chOff x="533520" y="1676520"/>
            <a:chExt cx="8001000" cy="4035240"/>
          </a:xfrm>
        </p:grpSpPr>
        <p:sp>
          <p:nvSpPr>
            <p:cNvPr id="290" name=""/>
            <p:cNvSpPr/>
            <p:nvPr/>
          </p:nvSpPr>
          <p:spPr>
            <a:xfrm>
              <a:off x="533520" y="1676520"/>
              <a:ext cx="800100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5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9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24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（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7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18-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3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6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（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3.4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4.6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-5.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4.8-6.8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219320" y="4191120"/>
              <a:ext cx="640080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1143000" y="457200"/>
            <a:ext cx="2620440" cy="852480"/>
            <a:chOff x="1143000" y="457200"/>
            <a:chExt cx="2620440" cy="852480"/>
          </a:xfrm>
        </p:grpSpPr>
        <p:sp>
          <p:nvSpPr>
            <p:cNvPr id="293" name=""/>
            <p:cNvSpPr/>
            <p:nvPr/>
          </p:nvSpPr>
          <p:spPr>
            <a:xfrm>
              <a:off x="1611000" y="51588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1143000" y="45720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4800600" y="2209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32400" y="297180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15000" y="3611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71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.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.7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429240" y="0"/>
            <a:ext cx="238140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256536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入相反数后，加减混合运算可以统一为加法运算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95480" y="836640"/>
            <a:ext cx="3838680" cy="782640"/>
            <a:chOff x="2895480" y="836640"/>
            <a:chExt cx="3838680" cy="7826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734080" y="83664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895480" y="94968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020600" y="501336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1828800"/>
            <a:ext cx="3048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提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4=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8=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029200"/>
            <a:ext cx="7010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结论：小数减去大数，等于大数减去小数的相反数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249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减去大数，所得的差是什么数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479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3505320"/>
            <a:ext cx="3962520" cy="990360"/>
          </a:xfrm>
          <a:prstGeom prst="cloudCallout">
            <a:avLst>
              <a:gd name="adj1" fmla="val -71273"/>
              <a:gd name="adj2" fmla="val 57694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互为相反数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4280" y="376200"/>
            <a:ext cx="6170400" cy="63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41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349360"/>
            <a:ext cx="720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一个数中连续减去几个数，我们可以从左到右依次将减法转化为加法，再运用加法运算律来简化运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60720" y="873000"/>
            <a:ext cx="2770200" cy="947520"/>
            <a:chOff x="3060720" y="873000"/>
            <a:chExt cx="2770200" cy="947520"/>
          </a:xfrm>
        </p:grpSpPr>
        <p:sp>
          <p:nvSpPr>
            <p:cNvPr id="309" name=""/>
            <p:cNvSpPr txBox="1"/>
            <p:nvPr/>
          </p:nvSpPr>
          <p:spPr>
            <a:xfrm>
              <a:off x="3060720" y="10969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4924440" y="8730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087560" y="4843440"/>
            <a:ext cx="6827760" cy="1416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90720" y="2133720"/>
            <a:ext cx="772164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减法法则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减去一个数，等于加上这个数的相反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即：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= 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＋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加减混合运算要以统一成加法运算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即：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＋（－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200040" y="0"/>
            <a:ext cx="2849400" cy="1709640"/>
            <a:chOff x="3200040" y="0"/>
            <a:chExt cx="2849400" cy="1709640"/>
          </a:xfrm>
        </p:grpSpPr>
        <p:sp>
          <p:nvSpPr>
            <p:cNvPr id="314" name="filecab3"/>
            <p:cNvSpPr/>
            <p:nvPr/>
          </p:nvSpPr>
          <p:spPr>
            <a:xfrm rot="10800000">
              <a:off x="32000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381780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770960" y="758880"/>
            <a:ext cx="941400" cy="1374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1905120"/>
            <a:ext cx="807732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两个数的和是负数，关于这两个数下列说法正确的是（ 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这两个数都是负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两个加数中，一个为负数，一个为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一个加数为正数，另一个为负数，并且负数的绝对值大于正数的绝对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种可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1520" y="2438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971440" y="0"/>
            <a:ext cx="2849400" cy="1709640"/>
            <a:chOff x="2971440" y="0"/>
            <a:chExt cx="2849400" cy="1709640"/>
          </a:xfrm>
        </p:grpSpPr>
        <p:sp>
          <p:nvSpPr>
            <p:cNvPr id="320" name="filecab3"/>
            <p:cNvSpPr/>
            <p:nvPr/>
          </p:nvSpPr>
          <p:spPr>
            <a:xfrm rot="10800000">
              <a:off x="29714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358920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35880" y="393840"/>
            <a:ext cx="1227240" cy="1199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03280" y="10065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27320" y="1996920"/>
            <a:ext cx="5878440" cy="704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325600" y="3036960"/>
            <a:ext cx="5486400" cy="201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3524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4915080" y="5297400"/>
            <a:ext cx="1904760" cy="647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454880" y="22320"/>
            <a:ext cx="1689120" cy="1228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552680" y="914400"/>
            <a:ext cx="6080040" cy="124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146320" y="2409840"/>
            <a:ext cx="5486400" cy="3971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384200" y="2682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5877000" y="4869000"/>
            <a:ext cx="1285920" cy="1228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19320" y="800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··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27080" y="184464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9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667040" y="-248040"/>
            <a:ext cx="266760" cy="6553440"/>
          </a:xfrm>
          <a:custGeom>
            <a:avLst/>
            <a:gdLst>
              <a:gd name="textAreaLeft" fmla="*/ 170640 w 266760"/>
              <a:gd name="textAreaRight" fmla="*/ 266760 w 26676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438280" y="312372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441972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3200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967280" y="3924360"/>
            <a:ext cx="2305080" cy="171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63640" y="76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架飞机作特技表演，起飞后的高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变化如下表：此时飞机比起飞点高了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少千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0560" y="4293360"/>
            <a:ext cx="6808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4.5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＋（－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5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）＋（＋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4.4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）＋（－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2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）＋（＋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6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4.5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5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4.4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2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3.6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5.8(km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答：此时飞机比起飞点高了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5.8km.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1640" y="2529000"/>
          <a:ext cx="8542440" cy="1365120"/>
        </p:xfrm>
        <a:graphic>
          <a:graphicData uri="http://schemas.openxmlformats.org/drawingml/2006/table">
            <a:tbl>
              <a:tblPr/>
              <a:tblGrid>
                <a:gridCol w="1220760"/>
                <a:gridCol w="1587600"/>
                <a:gridCol w="1482480"/>
                <a:gridCol w="1473480"/>
                <a:gridCol w="1341360"/>
                <a:gridCol w="143676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高度的变化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.5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下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5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.4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下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2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上升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6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记作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＋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.5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5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＋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.4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－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2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＋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.6km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787760" cy="134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533520" y="1905120"/>
            <a:ext cx="8305560" cy="4444200"/>
            <a:chOff x="533520" y="1905120"/>
            <a:chExt cx="8305560" cy="4444200"/>
          </a:xfrm>
        </p:grpSpPr>
        <p:sp>
          <p:nvSpPr>
            <p:cNvPr id="346" name=""/>
            <p:cNvSpPr/>
            <p:nvPr/>
          </p:nvSpPr>
          <p:spPr>
            <a:xfrm>
              <a:off x="533520" y="1905120"/>
              <a:ext cx="8305560" cy="44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８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.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.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．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1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02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；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0.8;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0.2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3124080" y="2776680"/>
              <a:ext cx="3962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6553080" y="3451320"/>
              <a:ext cx="57636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2971440" y="0"/>
            <a:ext cx="2849400" cy="1709640"/>
            <a:chOff x="2971440" y="0"/>
            <a:chExt cx="2849400" cy="1709640"/>
          </a:xfrm>
        </p:grpSpPr>
        <p:sp>
          <p:nvSpPr>
            <p:cNvPr id="350" name="filecab3"/>
            <p:cNvSpPr/>
            <p:nvPr/>
          </p:nvSpPr>
          <p:spPr>
            <a:xfrm rot="10800000">
              <a:off x="297144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3"/>
            <a:stretch/>
          </p:blipFill>
          <p:spPr>
            <a:xfrm>
              <a:off x="358920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7308720" y="743040"/>
            <a:ext cx="123840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1305000"/>
            <a:ext cx="8298000" cy="44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猜想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×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×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264360" y="293760"/>
            <a:ext cx="2619360" cy="124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66680" y="1066680"/>
            <a:ext cx="7315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×4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×5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 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＋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进一步猜想：负数乘整数得负数，积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值等于两个乘数的绝对值的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元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元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1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这些差的平均值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0.3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元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132000" y="526104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25279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知识与能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掌握有理数的减法法则并会进行有理数的减法运算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过程与方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把减法运算转化为加法运算，渗透转化思想；通过有理数减法法则的推导，发展逻辑思维能力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96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8941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53240" y="339840"/>
            <a:ext cx="1109880" cy="1369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2438280"/>
            <a:ext cx="769644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情感态度与价值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揭示有理数的减法法则，渗透事物间普遍联系、相互转化的辩证唯物主义思想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101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894120" y="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24720" y="677880"/>
            <a:ext cx="1224000" cy="1031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32000" y="2076480"/>
            <a:ext cx="594360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重点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理数减法法则的理解和运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难点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理数减法法则的推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895120" y="0"/>
            <a:ext cx="3551400" cy="1692360"/>
            <a:chOff x="2895120" y="0"/>
            <a:chExt cx="3551400" cy="1692360"/>
          </a:xfrm>
        </p:grpSpPr>
        <p:sp>
          <p:nvSpPr>
            <p:cNvPr id="106" name="filecab3"/>
            <p:cNvSpPr/>
            <p:nvPr/>
          </p:nvSpPr>
          <p:spPr>
            <a:xfrm rot="10800000">
              <a:off x="2895120" y="853920"/>
              <a:ext cx="3551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88476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2332080" cy="2412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145200" y="662040"/>
            <a:ext cx="2819520" cy="579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68680" y="29005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68680" y="390996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3080" y="2871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383080" y="35571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95480" y="19810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℃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5640" y="7063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计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和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的总温度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41400" y="33670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计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比温度计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高出的部分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怎么计算出来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0800" y="325296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71560" y="554976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 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0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65400" y="800280"/>
            <a:ext cx="766260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口算：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 （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=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=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；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 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=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－（＋５）＝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58760" y="84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5320" y="16146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040" y="2276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60040" y="2997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5320" y="370188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44880" y="5259240"/>
            <a:ext cx="4860720" cy="828720"/>
          </a:xfrm>
          <a:prstGeom prst="wedgeRoundRectCallout">
            <a:avLst>
              <a:gd name="adj1" fmla="val 5194"/>
              <a:gd name="adj2" fmla="val -190037"/>
              <a:gd name="adj3" fmla="val 16667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减法是加法的逆运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81760" y="368280"/>
            <a:ext cx="10382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65400" y="26028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11240" y="2535120"/>
            <a:ext cx="39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0+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）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=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4175280"/>
            <a:ext cx="47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６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10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83400" y="4030560"/>
            <a:ext cx="30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+4=10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0400" y="3454560"/>
            <a:ext cx="3581280" cy="758520"/>
            <a:chOff x="3200400" y="3454560"/>
            <a:chExt cx="3581280" cy="758520"/>
          </a:xfrm>
        </p:grpSpPr>
        <p:sp>
          <p:nvSpPr>
            <p:cNvPr id="132" name=""/>
            <p:cNvSpPr/>
            <p:nvPr/>
          </p:nvSpPr>
          <p:spPr>
            <a:xfrm>
              <a:off x="3200400" y="3454560"/>
              <a:ext cx="0" cy="7585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3454560"/>
              <a:ext cx="3581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454560"/>
              <a:ext cx="0" cy="7585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95720" y="3454560"/>
            <a:ext cx="16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相反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871880" y="4848120"/>
            <a:ext cx="2881440" cy="766800"/>
            <a:chOff x="4871880" y="4848120"/>
            <a:chExt cx="2881440" cy="766800"/>
          </a:xfrm>
        </p:grpSpPr>
        <p:sp>
          <p:nvSpPr>
            <p:cNvPr id="137" name=""/>
            <p:cNvSpPr/>
            <p:nvPr/>
          </p:nvSpPr>
          <p:spPr>
            <a:xfrm flipV="1">
              <a:off x="4871880" y="4887360"/>
              <a:ext cx="0" cy="72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1880" y="5614920"/>
              <a:ext cx="28814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753320" y="4848120"/>
              <a:ext cx="0" cy="7668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862600" y="4951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相同结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00360" y="1819440"/>
            <a:ext cx="54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数加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４等于６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32280" y="512640"/>
            <a:ext cx="3519360" cy="1185840"/>
            <a:chOff x="3032280" y="512640"/>
            <a:chExt cx="3519360" cy="1185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5599080" y="5126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Cloud"/>
            <p:cNvSpPr/>
            <p:nvPr/>
          </p:nvSpPr>
          <p:spPr>
            <a:xfrm>
              <a:off x="3032280" y="5126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552840" y="6649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49680" y="4362480"/>
            <a:ext cx="644760" cy="4968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5520" y="4329000"/>
            <a:ext cx="884160" cy="530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3320" y="4246560"/>
            <a:ext cx="378000" cy="5000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2960" y="4211640"/>
            <a:ext cx="647640" cy="5731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3280" y="5445000"/>
            <a:ext cx="1017720" cy="101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246800" y="1338120"/>
            <a:ext cx="1285920" cy="1229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zk5u.com</dc:creator>
  <dc:description/>
  <dc:language>en-US</dc:language>
  <cp:lastModifiedBy>微软用户</cp:lastModifiedBy>
  <dcterms:modified xsi:type="dcterms:W3CDTF">2014-06-30T00:57:42Z</dcterms:modified>
  <cp:revision>107</cp:revision>
  <dc:subject/>
  <dc:title>1.3.2 有理数的减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60000000000010250600207f7000400038000</vt:lpwstr>
  </property>
  <property fmtid="{D5CDD505-2E9C-101B-9397-08002B2CF9AE}" pid="3" name="Version">
    <vt:r8>1</vt:r8>
  </property>
</Properties>
</file>